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media/image8.wmf" ContentType="image/x-wmf"/>
  <Override PartName="/ppt/media/image9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</p:sldIdLst>
  <p:sldSz cx="9907588" cy="6858000"/>
  <p:notesSz cx="9871075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9870-C2C6-49FE-8181-82D838FE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B7FF-CED9-4958-A313-4DF9E842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36F3B-1053-421E-AA9A-0D0358E8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82A93-5124-4921-A9D7-37F382AE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746280" y="569880"/>
            <a:ext cx="84024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DE8E9-7E10-40C2-96F5-6C7C1D55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53251-3A54-475F-8EF7-D73C59A6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AEEFC-4D85-4A25-8B39-43641F73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74263-C6DF-40D9-90DC-5B679091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CF679-7770-45F6-A8C8-014A3BD0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B22B2-2055-425A-935D-02DF9BD0E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59424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43176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75708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59424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43176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1600F-7893-4DFF-9EF0-CD98EC9F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488E9-B0EB-47A1-9453-CF30DE22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9569-D345-416D-84C1-D5A8994E2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8F48C-F83B-43B5-A1B3-AD3D2B70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CB70EA-42F3-47B2-8277-09D2C1D6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5C840-7FAA-4F4F-A374-7A4D977B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9DA3FC-C362-4FD5-B568-A023C0B0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746280" y="569880"/>
            <a:ext cx="84024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1A083E-6FB4-4C86-A474-7EB2EC01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B9E4E-DD8B-4447-ACEB-1618336F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B485F-4759-45A4-835D-32B4B7E5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921FD1-1D8E-4776-AB2E-EC048302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66288-241D-4676-A9D2-E8BE9F7F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26AF2-B222-40F9-9AB4-F2EF8A07F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424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176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708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424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176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2CF4-5AE6-4F3D-8296-12208ED18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59424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43176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75708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59424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43176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404D2-BA8F-413E-A898-92A47B2E5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DBDC2-747F-4754-8582-95AF7FEF4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33256-7784-459A-8FB0-AC68A489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87ED3-C69D-4AF6-9D2E-822F6436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DCDB6-6740-49D4-BCB5-E79A6D8E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30283-6129-4B47-B110-E02D6279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746280" y="569880"/>
            <a:ext cx="84024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D5C94-5AAB-4E11-B76D-A904E9A5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CF89D-5E74-4C47-9E35-0A2AC458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58080-4587-4B61-8445-4AE34580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F5B6A-6B30-47EE-A64B-6DDB39A0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0B47-0195-4BF6-9CC4-C76F406D9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80F66-483D-4C69-A9A2-0867AE27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9309C-C8C8-4209-88AF-10BAD7C3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59424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43176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75708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59424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43176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D5864-1270-4F43-A468-A162600F0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91E9-2AEB-4CDB-AFB7-8E1BC9E8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3E3D-2E16-43A4-9BE7-743CF889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F774-65BD-46EF-80DB-13B16EB2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00FB-4671-41E5-9AD5-9DF8B21C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6280" y="569880"/>
            <a:ext cx="84024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9251-4AB5-4A6C-9242-6B4F54FD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AFC0-200B-49B3-945E-4718A162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431B-0859-486C-BBE6-E32FEFC2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7F30-D7B9-4949-BBAC-CEF608F6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8A2C-F93A-48A8-96B8-0D70345B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4222-B077-4E4B-A2CB-896C057A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B93A-789C-49AC-85BE-D5B609A5C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9424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3176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708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9424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3176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D682-9785-4804-B931-B7648F4DF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63124-EF84-42B4-A32A-AF2A2AC7C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EECAA-7750-4AB4-B34A-A7B67DB5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5D986-BE0C-452C-9D80-AF479224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AB8D9-4E87-432B-99FE-30447343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375ED-4BDC-4CA9-87C4-DB38B400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7E42-1B5D-4EA0-B017-E25854B3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746280" y="569880"/>
            <a:ext cx="84024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82C93-D5BA-483F-B754-B03C7280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310D9-6E7D-413B-ACAA-303A9D10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0E8EB-D983-4074-BDFA-2BB16A1F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77DC7-DF29-4F4C-9144-9BADAD6A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1AFE6-CE9A-41BF-9A93-82CC2F79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525C3-00C0-4A2E-96CE-B45BA1E4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59424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3176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75708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59424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3176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F0D7E-1641-4475-ABDA-E52180197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611C2-F9F4-4098-877B-3B913DCA0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43398-F2AC-42B9-89F5-5383FA54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CE995-36A3-4CC5-9851-59A2941F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0D9B-7551-4898-9185-3934D2E3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A207D-1226-404B-86A6-7C51F42D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E5616-9681-41A0-9213-8B442E64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746280" y="569880"/>
            <a:ext cx="84024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4CE1C-421A-4155-94F4-0F441489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A7337-9C24-412E-B8CB-5954FA5E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C62DC-EA91-4F4D-B945-A4BC9423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A2B2A-2307-4C57-9761-3CD19E4E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D118F-DE33-4CAB-B245-088DBA6A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4DFD7-6365-4750-A1A6-CA73FE6F8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9424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3176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75708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9424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43176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AEC52-F4C9-475F-9399-64B27757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6E08D-5DCD-4386-A548-D6F11AAC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A33C-93F1-4404-BEF8-A42F0F5E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6E460-4619-4172-BB60-69B7AE80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EACF7-925A-41A1-8CA9-C8886A0E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C5A2F-6280-4070-9EA1-D7E65A54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5F87B-9F27-4DBB-B825-A640DB36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746280" y="569880"/>
            <a:ext cx="84024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24883-1677-4F91-A217-41C75327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B7373-EA05-433A-869E-E219B6D3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5ACD4-F4C9-48EB-AC90-B42C213E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D3CFE-C2FA-413D-9986-88800602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6758F-E03E-4588-B254-BC3FF285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BBE06-D44E-40EC-9B5B-B57E4762C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6280" y="569880"/>
            <a:ext cx="84024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0FD0-8B4B-44C8-BDDE-BE6AF2ED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424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43176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75708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424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43176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369DB-0144-426F-B332-7CA9278D7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D0A9B-F913-48A9-9D33-84BDECE0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C1447-FFA1-4E3F-B17E-89909948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A45F9-4E45-44F4-A921-F11EACA9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3ED58-0B4F-4608-B89A-C784D68C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6310B-6C4A-4619-8A05-4122A60B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746280" y="569880"/>
            <a:ext cx="84024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F692D-DEA9-4476-B6C2-2F056410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1725C-50C5-4FDD-BA60-CFAEBC8E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1B1FD-CE40-4E51-87B5-DB16829C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A862A-62B6-4F87-AFF7-942036D5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63D2-9ED2-45D9-B3F2-DFBF3838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5B3C1-0F02-4ABA-BB23-95909500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B11F0-F691-4064-AF15-94098621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9424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43176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75708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9424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43176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D0C45-813D-408C-9221-B9CCD2840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83BA0-7C9F-4CA3-85DC-E0F4F924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00886-0FA3-430A-9080-E5D47AD5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36BB8-F4A8-40A0-9C0E-9447766C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14FCB-E5E9-48FC-920F-74278361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EABE9-EA01-4740-BA7C-3C84839E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746280" y="569880"/>
            <a:ext cx="84024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96DDF-B2F0-487D-8997-175A53DB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D19E0-2A74-4741-81F2-1FB0791B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1F59-F1FF-4BFD-9607-E83999F3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0F0E8-0DEB-4A17-B87E-90EB5D07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D8092-9457-4C93-9835-D9492088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80B73-D8B4-4A2F-8284-939523B9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075F1-5AF1-4B56-B1B3-029C75BC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9424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3176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75708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9424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3176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59DDF-35CE-406A-8E9F-1CCDB4AF2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811B0-2A3E-460D-A539-C0EC4BB8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8D107-51DE-41EB-B891-C7D468A3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F3DA7-E604-4A15-AC4E-9D29F2A6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34A94-28CF-455A-8BE9-A0417124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6C087-493E-4853-A52D-75A46D72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AB65-BE10-429A-9732-4B75AA8D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746280" y="569880"/>
            <a:ext cx="84024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E7973-7368-4922-B90D-86A6D2FC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CF6F0-4016-4076-9EF2-5F7356E7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7B74D-27E3-479B-A782-D3F078AC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FE8A6-BD77-4FD1-B7BA-C063F121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94336-AEAF-4571-AC5E-93D46A63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3891F-B105-439D-9248-E847A158C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59424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43176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75708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59424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43176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6070D-82DE-4F06-AD68-3522EEE2D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866D2-FA90-4AC5-912B-4775D539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B6894-E470-4AC3-B39A-160E9472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06A96-BDAE-477D-BA70-7C2184F3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906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906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90600" y="616104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384360" y="616104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2440" y="61610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F435-6978-43B8-89BC-D36BAB765663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Rectangle 6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pic>
          <p:nvPicPr>
            <p:cNvPr id="42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906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0" y="0"/>
              <a:ext cx="9906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8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05A3-B0BF-4D18-8B60-3F133CC7E6EC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Rectangle 6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pic>
          <p:nvPicPr>
            <p:cNvPr id="46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906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0" y="0"/>
              <a:ext cx="9906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5EC9-187E-46F6-8F3A-DC27590FE467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oup 8" descr=""/>
          <p:cNvPicPr/>
          <p:nvPr/>
        </p:nvPicPr>
        <p:blipFill>
          <a:blip r:embed="rId4"/>
          <a:stretch/>
        </p:blipFill>
        <p:spPr>
          <a:xfrm>
            <a:off x="1249200" y="2627280"/>
            <a:ext cx="7431120" cy="1590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9c6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ece9c6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90600" y="616104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384360" y="616104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192440" y="61610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A9EE-C270-435E-93F1-006200AC0EC9}" type="slidenum">
              <a:rPr b="0" lang="en-US" sz="1200" spc="-1" strike="noStrike">
                <a:solidFill>
                  <a:srgbClr val="ece9c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6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pic>
          <p:nvPicPr>
            <p:cNvPr id="8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906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906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7"/>
          <p:cNvGrpSpPr/>
          <p:nvPr/>
        </p:nvGrpSpPr>
        <p:grpSpPr>
          <a:xfrm>
            <a:off x="1269720" y="1392120"/>
            <a:ext cx="7343640" cy="916920"/>
            <a:chOff x="1269720" y="1392120"/>
            <a:chExt cx="7343640" cy="916920"/>
          </a:xfrm>
        </p:grpSpPr>
        <p:sp>
          <p:nvSpPr>
            <p:cNvPr id="91" name="TextBox 8"/>
            <p:cNvSpPr/>
            <p:nvPr/>
          </p:nvSpPr>
          <p:spPr>
            <a:xfrm>
              <a:off x="465336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Straight Connector 9"/>
            <p:cNvSpPr/>
            <p:nvPr/>
          </p:nvSpPr>
          <p:spPr>
            <a:xfrm flipH="1" flipV="1">
              <a:off x="1269720" y="1936800"/>
              <a:ext cx="337932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Straight Connector 10"/>
            <p:cNvSpPr/>
            <p:nvPr/>
          </p:nvSpPr>
          <p:spPr>
            <a:xfrm flipH="1" flipV="1">
              <a:off x="5234040" y="1933920"/>
              <a:ext cx="337932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90600" y="616104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384360" y="616104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192440" y="61610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C718-5E72-4E9E-8F4A-71FE93605516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Rectangle 6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pic>
          <p:nvPicPr>
            <p:cNvPr id="13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906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906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Picture 7" descr="CoverOverlay.png"/>
          <p:cNvPicPr/>
          <p:nvPr/>
        </p:nvPicPr>
        <p:blipFill>
          <a:blip r:embed="rId4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1269720" y="2887560"/>
            <a:ext cx="7343640" cy="916920"/>
            <a:chOff x="1269720" y="2887560"/>
            <a:chExt cx="7343640" cy="916920"/>
          </a:xfrm>
        </p:grpSpPr>
        <p:sp>
          <p:nvSpPr>
            <p:cNvPr id="140" name="TextBox 9"/>
            <p:cNvSpPr/>
            <p:nvPr/>
          </p:nvSpPr>
          <p:spPr>
            <a:xfrm>
              <a:off x="4653360" y="288756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Straight Connector 10"/>
            <p:cNvSpPr/>
            <p:nvPr/>
          </p:nvSpPr>
          <p:spPr>
            <a:xfrm flipH="1" flipV="1">
              <a:off x="1269720" y="3432240"/>
              <a:ext cx="337932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Straight Connector 11"/>
            <p:cNvSpPr/>
            <p:nvPr/>
          </p:nvSpPr>
          <p:spPr>
            <a:xfrm flipH="1" flipV="1">
              <a:off x="5234040" y="3434040"/>
              <a:ext cx="337932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90600" y="616104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384360" y="616104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7192440" y="61610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0D8D-FF33-4248-8B19-C4CD33024AD1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pic>
          <p:nvPicPr>
            <p:cNvPr id="18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906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906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7"/>
          <p:cNvGrpSpPr/>
          <p:nvPr/>
        </p:nvGrpSpPr>
        <p:grpSpPr>
          <a:xfrm>
            <a:off x="1269720" y="1392120"/>
            <a:ext cx="7343640" cy="916920"/>
            <a:chOff x="1269720" y="1392120"/>
            <a:chExt cx="7343640" cy="916920"/>
          </a:xfrm>
        </p:grpSpPr>
        <p:sp>
          <p:nvSpPr>
            <p:cNvPr id="188" name="TextBox 8"/>
            <p:cNvSpPr/>
            <p:nvPr/>
          </p:nvSpPr>
          <p:spPr>
            <a:xfrm>
              <a:off x="465336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Straight Connector 9"/>
            <p:cNvSpPr/>
            <p:nvPr/>
          </p:nvSpPr>
          <p:spPr>
            <a:xfrm flipH="1" flipV="1">
              <a:off x="1269720" y="1936800"/>
              <a:ext cx="337932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0"/>
            <p:cNvSpPr/>
            <p:nvPr/>
          </p:nvSpPr>
          <p:spPr>
            <a:xfrm flipH="1" flipV="1">
              <a:off x="5234040" y="1933920"/>
              <a:ext cx="337932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90600" y="616104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384360" y="616104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7192440" y="61610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97A0-B787-4C95-B4BA-3E962C4C5550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6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pic>
          <p:nvPicPr>
            <p:cNvPr id="23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906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906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7"/>
          <p:cNvGrpSpPr/>
          <p:nvPr/>
        </p:nvGrpSpPr>
        <p:grpSpPr>
          <a:xfrm>
            <a:off x="1269720" y="1392120"/>
            <a:ext cx="7343640" cy="916920"/>
            <a:chOff x="1269720" y="1392120"/>
            <a:chExt cx="7343640" cy="916920"/>
          </a:xfrm>
        </p:grpSpPr>
        <p:sp>
          <p:nvSpPr>
            <p:cNvPr id="236" name="TextBox 8"/>
            <p:cNvSpPr/>
            <p:nvPr/>
          </p:nvSpPr>
          <p:spPr>
            <a:xfrm>
              <a:off x="465336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Straight Connector 9"/>
            <p:cNvSpPr/>
            <p:nvPr/>
          </p:nvSpPr>
          <p:spPr>
            <a:xfrm flipH="1" flipV="1">
              <a:off x="1269720" y="1936800"/>
              <a:ext cx="337932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Straight Connector 10"/>
            <p:cNvSpPr/>
            <p:nvPr/>
          </p:nvSpPr>
          <p:spPr>
            <a:xfrm flipH="1" flipV="1">
              <a:off x="5234040" y="1933920"/>
              <a:ext cx="337932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390600" y="616104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384360" y="616104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7192440" y="61610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51B3-34B7-4D60-A72E-C4FC2851440B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6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pic>
          <p:nvPicPr>
            <p:cNvPr id="28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906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906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7"/>
          <p:cNvGrpSpPr/>
          <p:nvPr/>
        </p:nvGrpSpPr>
        <p:grpSpPr>
          <a:xfrm>
            <a:off x="1269720" y="1392120"/>
            <a:ext cx="7343640" cy="916920"/>
            <a:chOff x="1269720" y="1392120"/>
            <a:chExt cx="7343640" cy="916920"/>
          </a:xfrm>
        </p:grpSpPr>
        <p:sp>
          <p:nvSpPr>
            <p:cNvPr id="284" name="TextBox 8"/>
            <p:cNvSpPr/>
            <p:nvPr/>
          </p:nvSpPr>
          <p:spPr>
            <a:xfrm>
              <a:off x="465336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Straight Connector 9"/>
            <p:cNvSpPr/>
            <p:nvPr/>
          </p:nvSpPr>
          <p:spPr>
            <a:xfrm flipH="1" flipV="1">
              <a:off x="1269720" y="1936800"/>
              <a:ext cx="337932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Straight Connector 10"/>
            <p:cNvSpPr/>
            <p:nvPr/>
          </p:nvSpPr>
          <p:spPr>
            <a:xfrm flipH="1" flipV="1">
              <a:off x="5234040" y="1933920"/>
              <a:ext cx="337932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390600" y="616104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384360" y="616104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7192440" y="61610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0DE5-D887-4F76-B5D4-5B86D2427A78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Rectangle 6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pic>
          <p:nvPicPr>
            <p:cNvPr id="32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906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0" y="0"/>
              <a:ext cx="9906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7"/>
          <p:cNvGrpSpPr/>
          <p:nvPr/>
        </p:nvGrpSpPr>
        <p:grpSpPr>
          <a:xfrm>
            <a:off x="1269720" y="1392120"/>
            <a:ext cx="7343640" cy="916920"/>
            <a:chOff x="1269720" y="1392120"/>
            <a:chExt cx="7343640" cy="916920"/>
          </a:xfrm>
        </p:grpSpPr>
        <p:sp>
          <p:nvSpPr>
            <p:cNvPr id="332" name="TextBox 8"/>
            <p:cNvSpPr/>
            <p:nvPr/>
          </p:nvSpPr>
          <p:spPr>
            <a:xfrm>
              <a:off x="465336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Straight Connector 9"/>
            <p:cNvSpPr/>
            <p:nvPr/>
          </p:nvSpPr>
          <p:spPr>
            <a:xfrm flipH="1" flipV="1">
              <a:off x="1269720" y="1936800"/>
              <a:ext cx="337932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Straight Connector 10"/>
            <p:cNvSpPr/>
            <p:nvPr/>
          </p:nvSpPr>
          <p:spPr>
            <a:xfrm flipH="1" flipV="1">
              <a:off x="5234040" y="1933920"/>
              <a:ext cx="337932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90600" y="616104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384360" y="616104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7192440" y="61610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A612-B6D3-4923-A375-1ED351D7A5EE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6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pic>
          <p:nvPicPr>
            <p:cNvPr id="37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906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0" y="0"/>
              <a:ext cx="9906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7"/>
          <p:cNvGrpSpPr/>
          <p:nvPr/>
        </p:nvGrpSpPr>
        <p:grpSpPr>
          <a:xfrm>
            <a:off x="6747480" y="601560"/>
            <a:ext cx="916920" cy="5481720"/>
            <a:chOff x="6747480" y="601560"/>
            <a:chExt cx="916920" cy="5481720"/>
          </a:xfrm>
        </p:grpSpPr>
        <p:sp>
          <p:nvSpPr>
            <p:cNvPr id="380" name="TextBox 8"/>
            <p:cNvSpPr/>
            <p:nvPr/>
          </p:nvSpPr>
          <p:spPr>
            <a:xfrm rot="5400000">
              <a:off x="6928920" y="291420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Straight Connector 9"/>
            <p:cNvSpPr/>
            <p:nvPr/>
          </p:nvSpPr>
          <p:spPr>
            <a:xfrm flipV="1">
              <a:off x="7112880" y="601560"/>
              <a:ext cx="2520" cy="246960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Straight Connector 10"/>
            <p:cNvSpPr/>
            <p:nvPr/>
          </p:nvSpPr>
          <p:spPr>
            <a:xfrm flipV="1">
              <a:off x="7110720" y="3613680"/>
              <a:ext cx="1440" cy="246960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390600" y="616104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384360" y="616104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7192440" y="61610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2EDC-4AD6-45BA-AF3B-E4D9007807BD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Rectangle 2" descr=""/>
          <p:cNvPicPr/>
          <p:nvPr/>
        </p:nvPicPr>
        <p:blipFill>
          <a:blip r:embed="rId1"/>
          <a:stretch/>
        </p:blipFill>
        <p:spPr>
          <a:xfrm>
            <a:off x="450720" y="914400"/>
            <a:ext cx="8491680" cy="185256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1485720" y="3766680"/>
            <a:ext cx="69339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M. Tahir Nadee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partment </a:t>
            </a:r>
            <a:r>
              <a:rPr b="0" i="1" lang="en-US" sz="4800" spc="-1" strike="noStrike">
                <a:solidFill>
                  <a:srgbClr val="ffffff"/>
                </a:solidFill>
                <a:latin typeface="Monotype Corsiva"/>
              </a:rPr>
              <a:t>of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Educ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895d1d"/>
                </a:solidFill>
                <a:latin typeface="Book Antiqua"/>
              </a:rPr>
              <a:t>2004-05 (The Islamia University Bahawalpur)</a:t>
            </a:r>
            <a:br>
              <a:rPr sz="4900"/>
            </a:br>
            <a:endParaRPr b="0" lang="en-US" sz="4900" spc="-1" strike="noStrike">
              <a:solidFill>
                <a:srgbClr val="895d1d"/>
              </a:solidFill>
              <a:latin typeface="Book Antiqua"/>
            </a:endParaRPr>
          </a:p>
        </p:txBody>
      </p:sp>
      <p:graphicFrame>
        <p:nvGraphicFramePr>
          <p:cNvPr id="534" name="Object 8"/>
          <p:cNvGraphicFramePr/>
          <p:nvPr/>
        </p:nvGraphicFramePr>
        <p:xfrm>
          <a:off x="1905120" y="183024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83024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alculate your learning time at departmental level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Activity: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Not Quite fi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o say wrong thing at the wrong time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Reluctant to participate 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Access to Learning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How you can help students to have something to say?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Activity: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00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262626"/>
                </a:solidFill>
                <a:uFillTx/>
                <a:latin typeface="Book Antiqua"/>
              </a:rPr>
              <a:t>Procedures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361080" indent="-270000">
              <a:lnSpc>
                <a:spcPct val="7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Administrative routines, such as taking attendance.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361080" indent="-270000">
              <a:lnSpc>
                <a:spcPct val="7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Student movement, such as entering and leaving the room.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361080" indent="-270000">
              <a:lnSpc>
                <a:spcPct val="7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Routines for accomplishing assignments.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361080" indent="-270000">
              <a:lnSpc>
                <a:spcPct val="7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Interactions between teacher and student, such as how to get the teacher’s attention when help is needed.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361080" indent="-270000">
              <a:lnSpc>
                <a:spcPct val="7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Talk among students. Such as giving help or socializing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361080" indent="-270000">
              <a:lnSpc>
                <a:spcPct val="7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Individual work procedures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895d1d"/>
                </a:solidFill>
                <a:latin typeface="Book Antiqua"/>
              </a:rPr>
              <a:t>Management for Self Management</a:t>
            </a:r>
            <a:r>
              <a:rPr b="0" lang="en-US" sz="4900" spc="-1" strike="noStrike">
                <a:solidFill>
                  <a:srgbClr val="895d1d"/>
                </a:solidFill>
                <a:latin typeface="Book Antiqua"/>
              </a:rPr>
              <a:t> </a:t>
            </a:r>
            <a:endParaRPr b="0" lang="en-US" sz="49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Admission &amp; Examination rules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assroom rules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Attendance rules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Participation rules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Presentations rules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Behavior rules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minar rules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 u="sng">
                <a:solidFill>
                  <a:srgbClr val="895d1d"/>
                </a:solidFill>
                <a:uFillTx/>
                <a:latin typeface="Book Antiqua"/>
              </a:rPr>
              <a:t>Rules</a:t>
            </a:r>
            <a:br>
              <a:rPr sz="4900"/>
            </a:br>
            <a:endParaRPr b="0" lang="en-US" sz="49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>
              <a:lnSpc>
                <a:spcPct val="80000"/>
              </a:lnSpc>
              <a:spcBef>
                <a:spcPts val="7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Explanation 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272880">
              <a:lnSpc>
                <a:spcPct val="80000"/>
              </a:lnSpc>
              <a:spcBef>
                <a:spcPts val="7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Expression of disappointment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272880">
              <a:lnSpc>
                <a:spcPct val="80000"/>
              </a:lnSpc>
              <a:spcBef>
                <a:spcPts val="7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Loss of privileges 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272880">
              <a:lnSpc>
                <a:spcPct val="80000"/>
              </a:lnSpc>
              <a:spcBef>
                <a:spcPts val="7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Incentives to other students 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272880">
              <a:lnSpc>
                <a:spcPct val="80000"/>
              </a:lnSpc>
              <a:spcBef>
                <a:spcPts val="7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Written reflection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272880">
              <a:lnSpc>
                <a:spcPct val="80000"/>
              </a:lnSpc>
              <a:spcBef>
                <a:spcPts val="7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Fine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272880">
              <a:lnSpc>
                <a:spcPct val="80000"/>
              </a:lnSpc>
              <a:spcBef>
                <a:spcPts val="7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Detention 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272880">
              <a:lnSpc>
                <a:spcPct val="80000"/>
              </a:lnSpc>
              <a:spcBef>
                <a:spcPts val="7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Visit to Incharge Office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272880">
              <a:lnSpc>
                <a:spcPct val="80000"/>
              </a:lnSpc>
              <a:spcBef>
                <a:spcPts val="7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Contact with Parents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95d1d"/>
                </a:solidFill>
                <a:uFillTx/>
                <a:latin typeface="Book Antiqua"/>
              </a:rPr>
              <a:t>Punishments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0000">
              <a:lnSpc>
                <a:spcPct val="70000"/>
              </a:lnSpc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Make sure rules are workable and not too complicated</a:t>
            </a:r>
            <a:r>
              <a:rPr b="0" lang="en-US" sz="2200" spc="-1" strike="noStrike">
                <a:solidFill>
                  <a:srgbClr val="262626"/>
                </a:solidFill>
                <a:latin typeface="Book Antiqua"/>
              </a:rPr>
              <a:t> 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61080" indent="-270000">
              <a:lnSpc>
                <a:spcPct val="7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Establish rules that clearly specify requirements 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361080" indent="-270000">
              <a:lnSpc>
                <a:spcPct val="7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Offer rewards that makes more positive efforts 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361080" indent="-270000">
              <a:lnSpc>
                <a:spcPct val="7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Delay the discussion of the situation until you and the students involved, are calmer and more objective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361080" indent="-270000">
              <a:lnSpc>
                <a:spcPct val="7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Impose penalties privately.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361080" indent="-270000">
              <a:lnSpc>
                <a:spcPct val="7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After imposing a penalty, reestablish a positive relationship with the students immediately.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361080" indent="-270000">
              <a:lnSpc>
                <a:spcPct val="7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Set up graded list of penalties that will fit many occasions.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895d1d"/>
                </a:solidFill>
                <a:latin typeface="Book Antiqua"/>
              </a:rPr>
              <a:t>Dealing with Discipline Problems</a:t>
            </a:r>
            <a:endParaRPr b="0" lang="en-US" sz="49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533160" y="3352680"/>
            <a:ext cx="8915400" cy="277344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368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THANKS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echniques used to maintain a healthy learning environment, relatively free of behavior problems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95d1d"/>
                </a:solidFill>
                <a:latin typeface="Book Antiqua"/>
              </a:rPr>
              <a:t>Classroom Managemen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Reasons for getting enrol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Motivation 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Intellectual ability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Reactions to the personality of the teacher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nse of confidence and independence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Physical and emotional health conditions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5d1d"/>
                </a:solidFill>
                <a:latin typeface="Book Antiqua"/>
              </a:rPr>
              <a:t>An effective teacher knows well about the learners. Different kinds of information necessary for the teacher are:</a:t>
            </a:r>
            <a:endParaRPr b="0" lang="en-US" sz="2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How you can describe your students?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Activity: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Classrooms are multidimensional : Different goals, 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Preferences abilities , Task People, 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Time pressure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597240" indent="-597240">
              <a:lnSpc>
                <a:spcPct val="8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Simultaneity: Exampling , Discipline, Question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597240" indent="-597240">
              <a:lnSpc>
                <a:spcPct val="8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Immediacy: 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Pace of Classrooms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597240" indent="-597240">
              <a:lnSpc>
                <a:spcPct val="8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Unpredictable: No Light, Computer problem, 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Projector problem, Absent students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597240" indent="-597240">
              <a:lnSpc>
                <a:spcPct val="8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Public: 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Handling problem before people,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597240" indent="-597240">
              <a:lnSpc>
                <a:spcPct val="8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Histories: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597240" indent="-597240">
              <a:lnSpc>
                <a:spcPct val="8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95d1d"/>
                </a:solidFill>
                <a:latin typeface="Book Antiqua"/>
              </a:rPr>
              <a:t>The need for organization</a:t>
            </a: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 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What type of difficulty is more common in your Department?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Activity: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e aim of classroom management is to maintain a positive, productive learning environment. There are at least three reasons, why management is important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609480" indent="-609480">
              <a:spcBef>
                <a:spcPts val="601"/>
              </a:spcBef>
              <a:buClr>
                <a:srgbClr val="873624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More Time for Learning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609480" indent="-609480">
              <a:spcBef>
                <a:spcPts val="601"/>
              </a:spcBef>
              <a:buClr>
                <a:srgbClr val="873624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Access to Learning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609480" indent="-609480">
              <a:spcBef>
                <a:spcPts val="601"/>
              </a:spcBef>
              <a:buClr>
                <a:srgbClr val="873624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Management for Self Managemen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895d1d"/>
                </a:solidFill>
                <a:latin typeface="Book Antiqua"/>
              </a:rPr>
              <a:t>The Goals of Classroom Management</a:t>
            </a:r>
            <a:endParaRPr b="0" lang="en-US" sz="49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Allocated time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Engaged time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ime on task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Academic learning time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95d1d"/>
                </a:solidFill>
                <a:latin typeface="Book Antiqua"/>
              </a:rPr>
              <a:t>More Time for Learning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77440" y="-22860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95d1d"/>
                </a:solidFill>
                <a:latin typeface="Book Antiqua"/>
              </a:rPr>
              <a:t>1993 (Mignano)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394000" y="1523520"/>
            <a:ext cx="610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ime Managemen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30" name="Rectangle 16"/>
          <p:cNvSpPr/>
          <p:nvPr/>
        </p:nvSpPr>
        <p:spPr>
          <a:xfrm>
            <a:off x="4118040" y="6850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Object 15"/>
          <p:cNvGraphicFramePr/>
          <p:nvPr/>
        </p:nvGraphicFramePr>
        <p:xfrm>
          <a:off x="2478240" y="2286000"/>
          <a:ext cx="581652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8240" y="2286000"/>
                    <a:ext cx="581652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22:30:47Z</dcterms:created>
  <dc:creator>Tahir</dc:creator>
  <dc:description/>
  <dc:language>en-US</dc:language>
  <cp:lastModifiedBy>SaaD</cp:lastModifiedBy>
  <dcterms:modified xsi:type="dcterms:W3CDTF">2019-12-18T03:56:18Z</dcterms:modified>
  <cp:revision>9</cp:revision>
  <dc:subject/>
  <dc:title>Classroom Management</dc:title>
</cp:coreProperties>
</file>